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8A15-D764-45E2-87A4-BD6AFE678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98BF-9755-4FE6-A864-EA1D5A866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FAA9-0279-4BFF-BC95-144C522E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19C-1701-41F8-944B-F6788A4A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5593-454E-472A-A93D-F20EBC5D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8B0D-F389-415A-BA52-8D872899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C13E-7451-4D66-82A9-0AAF5BF4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9118-A89A-486D-9E53-F7277184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091A-2758-4EF6-BFFF-8493A6B5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D9AA-18FF-4BCB-9361-D44ABD5E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2B77-59D5-40F6-9CD7-8BE5BFF1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B324-9354-47D6-AE76-B3874327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B08A-7B92-4384-9FEA-30CBE795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3608-DBD5-4424-81AC-721B7B20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04D5-B26B-4438-AA94-A16A8C14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B83E-3DD5-43C7-8B36-72C04EC0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F9C1-8D21-4440-AA8C-74D1DF71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9809-F1B8-4FE3-9859-E75C4F0D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9194-C1C2-457B-AFB2-ECEE1386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0E2-8FA1-4B72-B47A-34819E9B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E190-F3EF-46AC-A7E9-7C24124F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E9F1-147B-4BC1-9E88-51AD507A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3CD5-6AAA-4D71-B076-10DC9A01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6EC0-0420-4366-BDF0-A5FBF00E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6CB8-D972-4DAC-A0A8-57E3F00E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6A0-918F-449B-B862-0DB097E8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D252-C383-487E-84CC-BFAD07DD9B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C386-1CD5-45F4-956A-116BF0E33E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4200" y="1285560"/>
            <a:ext cx="72741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МИНИСТЕРСТВО СПОРТА РОССИЙСКОЙ ФЕДЕРАЦИИ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 "ЦСП СБОРНЫХ КОМАНД РОССИИ"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П "ЮЖНЫЙ ФЕДЕРАЛЬНЫЙ ЦЕНТР СПОРТИВНОЙ ПОДГОТОВКИ" (ФГУП "ЮГ СПОРТ") 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мандный чемпионат России по легкой атле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5-26.05.2017 г.                    г. Сочи ст. ФГУП «ЮГ СПОРТ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. Адлер ст. «Юность»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5438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Командный чемпионат России по легкой атлетике</a:t>
            </a:r>
            <a:br>
              <a:rPr sz="1600"/>
            </a:br>
            <a:br>
              <a:rPr sz="16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25-26.05.2017 г.                    г. Сочи ст. ФГУП «ЮГ СПОРТ»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                             г. Адлер ст. «Юность» </a:t>
            </a:r>
            <a:br>
              <a:rPr sz="1600"/>
            </a:br>
            <a:br>
              <a:rPr sz="16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11280" y="1557360"/>
          <a:ext cx="7377120" cy="4243320"/>
        </p:xfrm>
        <a:graphic>
          <a:graphicData uri="http://schemas.openxmlformats.org/drawingml/2006/table">
            <a:tbl>
              <a:tblPr/>
              <a:tblGrid>
                <a:gridCol w="2232000"/>
                <a:gridCol w="2152440"/>
                <a:gridCol w="1044720"/>
                <a:gridCol w="1947960"/>
              </a:tblGrid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ректор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антин Трубоч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талий Слепченк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-на -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р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гей Ко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ди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на Клоч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лг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славская Ма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1К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ий менедж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миль П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йяр Айнетди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алья Шуб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лентина Слеп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-на-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онина Кабар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1К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тай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ректор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Ф.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.В. Трубоч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7-05-25T16:35:25Z</cp:lastPrinted>
  <dcterms:modified xsi:type="dcterms:W3CDTF">2017-05-25T17:24:41Z</dcterms:modified>
  <cp:revision>49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